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4E3-2BC3-461A-9CF3-3B374FB64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C03-79D5-4EBD-8881-A33E016A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096F-9C6C-44D9-8858-326879734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08DB-3B88-42D1-97AB-08AE55B06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5CE-3118-4A10-82AA-2D968881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393-870C-4676-BB8A-B4444C5D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623-6DCC-452C-A408-F96DCBDB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3B34-3614-499A-B6C6-3BF8FD8E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1AB-AA2C-4069-BF98-E9A50EB5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E15-3E88-4F84-8078-E40E37C2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BA2-3E82-46FC-9041-38148F63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043-1D57-4FEB-85A0-FD450629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2543F3-2A31-4861-B75F-DD828A29C627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01.jpg"/>
          <p:cNvPicPr/>
          <p:nvPr/>
        </p:nvPicPr>
        <p:blipFill>
          <a:blip r:embed="rId1"/>
          <a:stretch/>
        </p:blipFill>
        <p:spPr>
          <a:xfrm>
            <a:off x="0" y="21600"/>
            <a:ext cx="9143640" cy="6836040"/>
          </a:xfrm>
          <a:prstGeom prst="rect">
            <a:avLst/>
          </a:prstGeom>
          <a:ln w="0">
            <a:noFill/>
          </a:ln>
        </p:spPr>
      </p:pic>
      <p:sp>
        <p:nvSpPr>
          <p:cNvPr id="42" name="Plaque 4"/>
          <p:cNvSpPr/>
          <p:nvPr/>
        </p:nvSpPr>
        <p:spPr>
          <a:xfrm>
            <a:off x="0" y="0"/>
            <a:ext cx="9143640" cy="1642680"/>
          </a:xfrm>
          <a:prstGeom prst="plaque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tl"/>
          </a:blip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</a:pPr>
            <a:r>
              <a:rPr b="1" lang="ar-SY" sz="8800" spc="-1" strike="noStrike">
                <a:solidFill>
                  <a:srgbClr val="002060"/>
                </a:solidFill>
                <a:latin typeface="Calibri"/>
              </a:rPr>
              <a:t>الأيمان والثقة بالل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0"/>
            <a:ext cx="91436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70c0"/>
                </a:solidFill>
                <a:latin typeface="Calibri"/>
              </a:rPr>
              <a:t>عندما نتقدم للمرة الأولى نحو شيء نجهله فاننا نخاف بعض الشيء هذا ما يؤدي لترددنا , حتى لو كان هذا الشيء سيؤدي لنوع من السعادة لنا . فنتقدم خطوة لنتراجع مثلها لنعاود التقدم , فالتراجع لمرات عدة شيئا فشيئا فاننا نثق بمن معنا ونتجرأ على الذهاب للبعيد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0" y="5857920"/>
            <a:ext cx="9143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أحيانا فان هذه الجرأة لا تستمر وحيث أننا نكون مندفعين بقوة فان هذا يجعلنا نخاف أن نفقد توازننا فلا نعرف بماذا سنتعلق أو ماذا سيحدث لنا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0" y="5715000"/>
            <a:ext cx="914364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ولكن في تلك اللحظة اذا ما جاء شخص ما لمساندتنا , حتى لو وقف الى جانبنا فقط , فأنه سيعيد الثقة الى أنفسنا , ويكون هذا شيء جيد بالنسبة لن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5429160"/>
            <a:ext cx="914364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عندما تعود الثقة الينا فان الخوف يذهب , فنتركه يذهب كما لو أننا نرتاح منه . في الحقيقة عندها نكون مرتاحين , بسيطين , لكن بنفس الوقت نشعر بالقوة والخفة لأننا نشعر بأن لا شيء سييء سيحصل معن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06.jpg"/>
          <p:cNvPicPr/>
          <p:nvPr/>
        </p:nvPicPr>
        <p:blipFill>
          <a:blip r:embed="rId1"/>
          <a:stretch/>
        </p:blipFill>
        <p:spPr>
          <a:xfrm>
            <a:off x="0" y="-59400"/>
            <a:ext cx="9143640" cy="691704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0" y="4572000"/>
            <a:ext cx="62863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عندما نؤمن بأن الرب يرافقنا دائما حتى أبعد نقطة في حياتنا ... عندما نؤمن بأننا لسنا لوحدنا دوما . عندما نستمر بالأيمان بالله حتى لو أننا نشعر بالخوف . حتى لو كانت الأمور غير جيدة عندها فاننا نكون نثق بالل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  <Words>189</Words>
  <Paragraphs>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9:21:14Z</dcterms:created>
  <dc:creator>Computer</dc:creator>
  <dc:description/>
  <dc:language>en-US</dc:language>
  <cp:lastModifiedBy>Computer</cp:lastModifiedBy>
  <dcterms:modified xsi:type="dcterms:W3CDTF">2013-05-04T01:45:4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6</vt:r8>
  </property>
</Properties>
</file>